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767-D5BC-4D45-8245-E45F1A92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945-BAB9-41A8-82B0-9C93FE5F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5AA-D625-4669-93DE-408F813E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DE5-B596-430C-9296-8FD82A36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0329-AEF3-418D-B49B-36908267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EFA6-A47B-4C13-94DA-6CC7B59E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6817-93CC-4E13-9F59-913153EF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ACE4-D3F4-4DAB-9D8F-9A2D751B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CD4C-B361-409E-9A3D-4CA9990B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6309-0DF2-43BE-8D48-2C5C8111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2CD1-2130-41E8-AB81-DB0358E1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314-4924-4149-AF9D-0F823894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6C13-E060-4C42-B08F-0A0D1F27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539A-B473-4E22-83FF-4C17E997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5A8D-A58B-41AD-BB3F-FDEEB1A9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4C3E-89CE-435C-B6D3-4685487B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2E83-F9B1-40CA-83A7-2FEE0255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386-255F-4800-B94F-271CF1E3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B4C-2AAA-46A8-8581-582685B9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4C8-2122-495A-A154-926C53CD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66C-6043-44E8-B8FB-1FE3A5D5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2C7-024D-4267-9CAD-1D8ED3B1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F7D-479E-4FED-B25E-58A61F3E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1D8-1079-4AB7-8899-0C8C348F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2C9A-3DDB-4823-8DD5-D2E7B50E12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6CCF-1CBA-46AA-BDBB-B640D21036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hyperlink" Target="http://www.iconn.org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Joy.Fitzgerald@vernonct.org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hyperlink" Target="http://go-passport.grolier.com/" TargetMode="External"/><Relationship Id="rId3" Type="http://schemas.openxmlformats.org/officeDocument/2006/relationships/hyperlink" Target="http://go.grolier.com/" TargetMode="External"/><Relationship Id="rId4" Type="http://schemas.openxmlformats.org/officeDocument/2006/relationships/hyperlink" Target="http://infotrac.galegroup.com/itweb/s1461?db=SRC" TargetMode="External"/><Relationship Id="rId5" Type="http://schemas.openxmlformats.org/officeDocument/2006/relationships/hyperlink" Target="http://find.galegroup.com/menu/start?prod=OVRC&amp;userGroupName=s1461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ibrary Orientation to Magazines and Online Databas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dult Ed - 201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gs to remember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Databases are overall more reliable than a search on the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resources are available through RHS Subscriptions and State of Connecticut Subscriptions which can be found by going to the RHS Library WIKISPACES PAGE 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CT State Resources at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iconn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43400" y="4388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ockville High School Wikispaces Page with links for your use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rhslmc2008.wikispaces.com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se the Resources Prepared for you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TABS to limit or sel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Articles and Databases helps  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d databases that have articles, streaming media, and more in the following subjects..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Subjects or Key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for SPECIFIC if you hav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results are too limited broaden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LINE or In-Person HELP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mped or need help with online resourc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email the RHS Librarian 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oy.Fitzgerald@vernonct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I will email back with answer if I can hel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st of ICONN Resourc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839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839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763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eded to access Information on the Internet – Sources Availab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Library Resources - Author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l Library Resources – Author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e Internet Resources (Google or oth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may be authorit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are provent to be un-reliable some of the time so must be double checked if u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atures of Note to help you alo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FT MARGIN has links to related subje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ulti-tasking or saving for later (features you can have it read to you through an MP3 Download if you are going to be on a bus or riding in a ca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int articles or Email them to store them electronical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ookmark things: example: Bookmark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py the Bookmark URL and paste it into another document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ttp://find.galegroup.com/gps/infomark.do?contentSet=IAC-Documents&amp;docType=IAC&amp;type=retrieve&amp;tabID=T003&amp;prodId=IPS&amp;docId=A204808169&amp;userGroupName=s1461&amp;version=1.0&amp;searchType=AdvancedSearchForm&amp;source=gale&amp;infoPage=infoMarkPa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ecial Online features to help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Dictionary defini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85760" y="1752480"/>
            <a:ext cx="722016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42840" y="519120"/>
            <a:ext cx="7258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86200" y="972360"/>
            <a:ext cx="84186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ome Primary Source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ch as Newspapers available through ICONN (** This also has a HISTORIC CONNECTICUT NEWSPAPERS DATABASE which covers 1764-1922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630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57800" y="834120"/>
            <a:ext cx="83134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arches may yield only Abstracts or Cit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TAIL: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ITAT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Source Citation Murphy, Kate. "Organic food: should you bother?" Self July 2000: 84+. General OneFile. Web. 25 Jan. 2010. &lt;http://find.galegroup.com/gps/start.do?prodId=IPS&amp;userGroupName=s1461&gt;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TAIL: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STRAC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Abstract: A discussion of the possible benefits of eating organic food in the US is presented, with focus on the health benefits due to lack of pesticides and enviromental issues. </a:t>
            </a:r>
            <a:br>
              <a:rPr sz="1800"/>
            </a:b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arch Government Docu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 Documents – Electronic or Print versions of publications by the government on all different top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have some in Print in our VERTICAL FILE, a print set of folders in file cabine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vernment websites may have information :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pulation Statistics and Public Information are common and available from many websites ending in “.gov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st of these you can download PDF versions or request a print version be mailed to you for free or a small char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62080" y="186120"/>
            <a:ext cx="839052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Genera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specif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257040"/>
            <a:ext cx="541188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62240" y="190800"/>
            <a:ext cx="5637960" cy="5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ational Archiv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104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6814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te Library Resources - Authoritativ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                         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8000" y="548640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cslib.org/#2731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7391520" cy="61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               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22952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AP UP  and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 &amp; 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 Library Website for li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a Librarian if nee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your teacher for other termi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rrific opportunity … great resources… use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10080" y="834120"/>
            <a:ext cx="7932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ocal Library Resources – Authoritativ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362240"/>
            <a:ext cx="87631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86400" y="910080"/>
            <a:ext cx="7932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ocal Library Resources – Card Catalo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BRARY RESOURC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azines and Periodicals both in print or online or in libraries or through inter-library lo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azines found through Paid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ronic resources  including electronic books, journals, newspapers and m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Documents – Vertical File &amp; On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forms – Historical – Ask at de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abases from State and Loc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nu li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e: wi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xes with chec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databas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che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accessi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t of list i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i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86200" y="380880"/>
            <a:ext cx="5037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to Start Onlin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Home page on RHS Websi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WIKI page a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line Databases such a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OLIER :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go-passport.grolier.com/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go.grolier.co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STUDENT RESOURCE CENTER GOL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http://find.galegroup.com/srcx/start.do?sc=SRC&amp;userGroupName=s14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Opposing Viewpoints Resource Cen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http://find.galegroup.com/ovrc/start.do?prodId=OVRC&amp;userGroupName=s14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39:36Z</dcterms:created>
  <dc:creator>fitzgeraldj</dc:creator>
  <dc:description/>
  <dc:language>en-US</dc:language>
  <cp:lastModifiedBy>libcirc</cp:lastModifiedBy>
  <dcterms:modified xsi:type="dcterms:W3CDTF">2010-04-26T22:09:30Z</dcterms:modified>
  <cp:revision>29</cp:revision>
  <dc:subject/>
  <dc:title>Library Orientation</dc:title>
</cp:coreProperties>
</file>